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46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camera.wav" ContentType="audio/x-wav"/>
  <Override PartName="/ppt/media/image30.wmf" ContentType="image/x-wmf"/>
  <Override PartName="/ppt/media/projctor.wav" ContentType="audio/x-wav"/>
  <Override PartName="/ppt/media/image26.wmf" ContentType="image/x-wmf"/>
  <Override PartName="/ppt/media/jetflyby.wav" ContentType="audio/x-wav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driveby.wav" ContentType="audio/x-wav"/>
  <Override PartName="/ppt/media/image39.wmf" ContentType="image/x-wmf"/>
  <Override PartName="/ppt/media/image9.wmf" ContentType="image/x-wmf"/>
  <Override PartName="/ppt/media/image12.wmf" ContentType="image/x-wmf"/>
  <Override PartName="/ppt/media/hzipup01.wav" ContentType="audio/x-wav"/>
  <Override PartName="/ppt/media/image37.wmf" ContentType="image/x-wmf"/>
  <Override PartName="/ppt/media/image7.wmf" ContentType="image/x-wmf"/>
  <Override PartName="/ppt/media/image19.wmf" ContentType="image/x-wmf"/>
  <Override PartName="/ppt/media/image48.wmf" ContentType="image/x-wmf"/>
  <Override PartName="/ppt/media/image11.wmf" ContentType="image/x-wmf"/>
  <Override PartName="/ppt/media/image25.wmf" ContentType="image/x-wmf"/>
  <Override PartName="/ppt/media/gunshot.wav" ContentType="audio/x-wav"/>
  <Override PartName="/ppt/media/image36.wmf" ContentType="image/x-wmf"/>
  <Override PartName="/ppt/media/image6.wmf" ContentType="image/x-wmf"/>
  <Override PartName="/ppt/media/image18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applause.wav" ContentType="audio/x-wav"/>
  <Override PartName="/ppt/media/image63.wmf" ContentType="image/x-wmf"/>
  <Override PartName="/ppt/media/image34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57.wmf" ContentType="image/x-wmf"/>
  <Override PartName="/ppt/media/image58.wmf" ContentType="image/x-wmf"/>
  <Override PartName="/ppt/media/image60.wmf" ContentType="image/x-wmf"/>
  <Override PartName="/ppt/media/image62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59.wmf" ContentType="image/x-wmf"/>
  <Override PartName="/ppt/media/image61.wmf" ContentType="image/x-wmf"/>
  <Override PartName="/ppt/media/byipee04.wav" ContentType="audio/x-wav"/>
  <Override PartName="/ppt/media/image76.wmf" ContentType="image/x-wmf"/>
  <Override PartName="/ppt/media/jetflyby2.wav" ContentType="audio/x-wav"/>
  <Override PartName="/ppt/media/slotwn08.wav" ContentType="audio/x-wav"/>
  <Override PartName="/ppt/media/image73.wmf" ContentType="image/x-wmf"/>
  <Override PartName="/ppt/media/image78.wmf" ContentType="image/x-wmf"/>
  <Override PartName="/ppt/media/image77.wmf" ContentType="image/x-wmf"/>
  <Override PartName="/ppt/media/image75.wmf" ContentType="image/x-wmf"/>
  <Override PartName="/ppt/media/image74.wmf" ContentType="image/x-wmf"/>
  <Override PartName="/ppt/media/image72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8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51.wmf" ContentType="image/x-wmf"/>
  <Override PartName="/ppt/media/image50.wmf" ContentType="image/x-wmf"/>
  <Override PartName="/ppt/media/bserie06.wav" ContentType="audio/x-wav"/>
  <Override PartName="/ppt/media/image8.wmf" ContentType="image/x-wmf"/>
  <Override PartName="/ppt/media/image38.wmf" ContentType="image/x-wmf"/>
  <Override PartName="/ppt/media/CHIMES.WAV" ContentType="audio/x-wav"/>
  <Override PartName="/ppt/media/image49.wmf" ContentType="image/x-wmf"/>
  <Override PartName="/ppt/media/carbrake.wav" ContentType="audio/x-wav"/>
  <Override PartName="/ppt/media/image45.wmf" ContentType="image/x-wmf"/>
  <Override PartName="/ppt/media/WHOOSH.WAV" ContentType="audio/x-wav"/>
  <Override PartName="/ppt/media/image79.wmf" ContentType="image/x-wmf"/>
  <Override PartName="/ppt/media/image14.wmf" ContentType="image/x-wmf"/>
  <Override PartName="/ppt/media/image2.wmf" ContentType="image/x-wmf"/>
  <Override PartName="/ppt/media/laser.wav" ContentType="audio/x-wav"/>
  <Override PartName="/ppt/media/zipdn102.wav" ContentType="audio/x-wav"/>
  <Override PartName="/ppt/media/image27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EXPLODE.WAV" ContentType="audio/x-wav"/>
  <Override PartName="/ppt/media/image1.wmf" ContentType="image/x-wmf"/>
  <Override PartName="/ppt/media/image13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2CE-E8CB-496D-A74A-0860BC30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53BC-461F-4E68-8C5C-B12C65B5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4E0-E574-4D81-9F9B-0E551776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8539-9151-49E9-BEC1-0D3F3FAB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83A-E995-4817-9685-0329151D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E2BF-0031-4BBE-995E-1077BA72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BA2-D57F-4E86-837E-CEC63D22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BC78-24C3-4F89-BA7C-E03B626C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E46B-C6F2-492A-A175-691695C8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852-E50B-4E04-BE24-24E10355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597-A798-42E9-9AC6-C38F2635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EF61-14A9-4A19-B706-D29AB608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9FB2-D0AE-47FF-8BAB-5456E6FE0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audio" Target="../media/WHOOSH.WAV"/><Relationship Id="rId28" Type="http://schemas.openxmlformats.org/officeDocument/2006/relationships/audio" Target="../media/CHIMES.WAV"/><Relationship Id="rId29" Type="http://schemas.openxmlformats.org/officeDocument/2006/relationships/audio" Target="../media/carbrake.wav"/><Relationship Id="rId30" Type="http://schemas.openxmlformats.org/officeDocument/2006/relationships/audio" Target="../media/projctor.wav"/><Relationship Id="rId31" Type="http://schemas.openxmlformats.org/officeDocument/2006/relationships/audio" Target="../media/bserie06.wav"/><Relationship Id="rId32" Type="http://schemas.openxmlformats.org/officeDocument/2006/relationships/audio" Target="../media/projctor.wav"/><Relationship Id="rId33" Type="http://schemas.openxmlformats.org/officeDocument/2006/relationships/audio" Target="../media/projctor.wav"/><Relationship Id="rId34" Type="http://schemas.openxmlformats.org/officeDocument/2006/relationships/audio" Target="../media/driveby.wav"/><Relationship Id="rId35" Type="http://schemas.openxmlformats.org/officeDocument/2006/relationships/audio" Target="../media/projctor.wav"/><Relationship Id="rId36" Type="http://schemas.openxmlformats.org/officeDocument/2006/relationships/audio" Target="../media/projctor.wav"/><Relationship Id="rId37" Type="http://schemas.openxmlformats.org/officeDocument/2006/relationships/audio" Target="../media/projctor.wav"/><Relationship Id="rId38" Type="http://schemas.openxmlformats.org/officeDocument/2006/relationships/audio" Target="../media/bserie06.wav"/><Relationship Id="rId39" Type="http://schemas.openxmlformats.org/officeDocument/2006/relationships/audio" Target="../media/EXPLODE.WAV"/><Relationship Id="rId40" Type="http://schemas.openxmlformats.org/officeDocument/2006/relationships/audio" Target="../media/CHIMES.WAV"/><Relationship Id="rId41" Type="http://schemas.openxmlformats.org/officeDocument/2006/relationships/audio" Target="../media/EXPLODE.WAV"/><Relationship Id="rId42" Type="http://schemas.openxmlformats.org/officeDocument/2006/relationships/audio" Target="../media/gunshot.wav"/><Relationship Id="rId43" Type="http://schemas.openxmlformats.org/officeDocument/2006/relationships/audio" Target="../media/EXPLODE.WAV"/><Relationship Id="rId44" Type="http://schemas.openxmlformats.org/officeDocument/2006/relationships/audio" Target="../media/gunshot.wav"/><Relationship Id="rId45" Type="http://schemas.openxmlformats.org/officeDocument/2006/relationships/audio" Target="../media/driveby.wav"/><Relationship Id="rId46" Type="http://schemas.openxmlformats.org/officeDocument/2006/relationships/audio" Target="../media/zipdn102.wav"/><Relationship Id="rId47" Type="http://schemas.openxmlformats.org/officeDocument/2006/relationships/audio" Target="../media/zipdn102.wav"/><Relationship Id="rId48" Type="http://schemas.openxmlformats.org/officeDocument/2006/relationships/audio" Target="../media/EXPLODE.WAV"/><Relationship Id="rId49" Type="http://schemas.openxmlformats.org/officeDocument/2006/relationships/audio" Target="../media/projctor.wav"/><Relationship Id="rId50" Type="http://schemas.openxmlformats.org/officeDocument/2006/relationships/audio" Target="../media/projctor.wav"/><Relationship Id="rId51" Type="http://schemas.openxmlformats.org/officeDocument/2006/relationships/audio" Target="../media/projctor.wav"/><Relationship Id="rId52" Type="http://schemas.openxmlformats.org/officeDocument/2006/relationships/audio" Target="../media/projctor.wav"/><Relationship Id="rId53" Type="http://schemas.openxmlformats.org/officeDocument/2006/relationships/audio" Target="../media/driveby.wav"/><Relationship Id="rId54" Type="http://schemas.openxmlformats.org/officeDocument/2006/relationships/audio" Target="../media/driveby.wav"/><Relationship Id="rId55" Type="http://schemas.openxmlformats.org/officeDocument/2006/relationships/audio" Target="../media/applause.wav"/><Relationship Id="rId5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5.wmf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projctor.wav"/><Relationship Id="rId28" Type="http://schemas.openxmlformats.org/officeDocument/2006/relationships/audio" Target="../media/driveby.wav"/><Relationship Id="rId29" Type="http://schemas.openxmlformats.org/officeDocument/2006/relationships/audio" Target="../media/projctor.wav"/><Relationship Id="rId30" Type="http://schemas.openxmlformats.org/officeDocument/2006/relationships/audio" Target="../media/projctor.wav"/><Relationship Id="rId31" Type="http://schemas.openxmlformats.org/officeDocument/2006/relationships/audio" Target="../media/projctor.wav"/><Relationship Id="rId32" Type="http://schemas.openxmlformats.org/officeDocument/2006/relationships/audio" Target="../media/bserie06.wav"/><Relationship Id="rId33" Type="http://schemas.openxmlformats.org/officeDocument/2006/relationships/audio" Target="../media/EXPLODE.WAV"/><Relationship Id="rId34" Type="http://schemas.openxmlformats.org/officeDocument/2006/relationships/audio" Target="../media/CHIMES.WAV"/><Relationship Id="rId35" Type="http://schemas.openxmlformats.org/officeDocument/2006/relationships/audio" Target="../media/EXPLODE.WAV"/><Relationship Id="rId36" Type="http://schemas.openxmlformats.org/officeDocument/2006/relationships/audio" Target="../media/gunshot.wav"/><Relationship Id="rId37" Type="http://schemas.openxmlformats.org/officeDocument/2006/relationships/audio" Target="../media/EXPLODE.WAV"/><Relationship Id="rId38" Type="http://schemas.openxmlformats.org/officeDocument/2006/relationships/audio" Target="../media/gunshot.wav"/><Relationship Id="rId39" Type="http://schemas.openxmlformats.org/officeDocument/2006/relationships/audio" Target="../media/gunshot.wav"/><Relationship Id="rId40" Type="http://schemas.openxmlformats.org/officeDocument/2006/relationships/audio" Target="../media/gunshot.wav"/><Relationship Id="rId41" Type="http://schemas.openxmlformats.org/officeDocument/2006/relationships/audio" Target="../media/jetflyby.wav"/><Relationship Id="rId42" Type="http://schemas.openxmlformats.org/officeDocument/2006/relationships/audio" Target="../media/zipdn102.wav"/><Relationship Id="rId43" Type="http://schemas.openxmlformats.org/officeDocument/2006/relationships/audio" Target="../media/zipdn102.wav"/><Relationship Id="rId44" Type="http://schemas.openxmlformats.org/officeDocument/2006/relationships/audio" Target="../media/EXPLODE.WAV"/><Relationship Id="rId45" Type="http://schemas.openxmlformats.org/officeDocument/2006/relationships/audio" Target="../media/projctor.wav"/><Relationship Id="rId46" Type="http://schemas.openxmlformats.org/officeDocument/2006/relationships/audio" Target="../media/projctor.wav"/><Relationship Id="rId47" Type="http://schemas.openxmlformats.org/officeDocument/2006/relationships/audio" Target="../media/projctor.wav"/><Relationship Id="rId48" Type="http://schemas.openxmlformats.org/officeDocument/2006/relationships/audio" Target="../media/driveby.wav"/><Relationship Id="rId49" Type="http://schemas.openxmlformats.org/officeDocument/2006/relationships/audio" Target="../media/driveby.wav"/><Relationship Id="rId50" Type="http://schemas.openxmlformats.org/officeDocument/2006/relationships/audio" Target="../media/applause.wav"/><Relationship Id="rId5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7.wmf"/><Relationship Id="rId27" Type="http://schemas.openxmlformats.org/officeDocument/2006/relationships/audio" Target="../media/projctor.wav"/><Relationship Id="rId28" Type="http://schemas.openxmlformats.org/officeDocument/2006/relationships/audio" Target="../media/projctor.wav"/><Relationship Id="rId29" Type="http://schemas.openxmlformats.org/officeDocument/2006/relationships/audio" Target="../media/projctor.wav"/><Relationship Id="rId30" Type="http://schemas.openxmlformats.org/officeDocument/2006/relationships/audio" Target="../media/driveby.wav"/><Relationship Id="rId31" Type="http://schemas.openxmlformats.org/officeDocument/2006/relationships/audio" Target="../media/projctor.wav"/><Relationship Id="rId32" Type="http://schemas.openxmlformats.org/officeDocument/2006/relationships/audio" Target="../media/projctor.wav"/><Relationship Id="rId33" Type="http://schemas.openxmlformats.org/officeDocument/2006/relationships/audio" Target="../media/bserie06.wav"/><Relationship Id="rId34" Type="http://schemas.openxmlformats.org/officeDocument/2006/relationships/audio" Target="../media/EXPLODE.WAV"/><Relationship Id="rId35" Type="http://schemas.openxmlformats.org/officeDocument/2006/relationships/audio" Target="../media/CHIMES.WAV"/><Relationship Id="rId36" Type="http://schemas.openxmlformats.org/officeDocument/2006/relationships/audio" Target="../media/EXPLODE.WAV"/><Relationship Id="rId37" Type="http://schemas.openxmlformats.org/officeDocument/2006/relationships/audio" Target="../media/gunshot.wav"/><Relationship Id="rId38" Type="http://schemas.openxmlformats.org/officeDocument/2006/relationships/audio" Target="../media/EXPLODE.WAV"/><Relationship Id="rId39" Type="http://schemas.openxmlformats.org/officeDocument/2006/relationships/audio" Target="../media/gunshot.wav"/><Relationship Id="rId40" Type="http://schemas.openxmlformats.org/officeDocument/2006/relationships/audio" Target="../media/gunshot.wav"/><Relationship Id="rId41" Type="http://schemas.openxmlformats.org/officeDocument/2006/relationships/audio" Target="../media/gunshot.wav"/><Relationship Id="rId42" Type="http://schemas.openxmlformats.org/officeDocument/2006/relationships/audio" Target="../media/gunshot.wav"/><Relationship Id="rId43" Type="http://schemas.openxmlformats.org/officeDocument/2006/relationships/audio" Target="../media/jetflyby.wav"/><Relationship Id="rId44" Type="http://schemas.openxmlformats.org/officeDocument/2006/relationships/audio" Target="../media/zipdn102.wav"/><Relationship Id="rId45" Type="http://schemas.openxmlformats.org/officeDocument/2006/relationships/audio" Target="../media/zipdn102.wav"/><Relationship Id="rId46" Type="http://schemas.openxmlformats.org/officeDocument/2006/relationships/audio" Target="../media/EXPLODE.WAV"/><Relationship Id="rId47" Type="http://schemas.openxmlformats.org/officeDocument/2006/relationships/audio" Target="../media/projctor.wav"/><Relationship Id="rId48" Type="http://schemas.openxmlformats.org/officeDocument/2006/relationships/audio" Target="../media/projctor.wav"/><Relationship Id="rId49" Type="http://schemas.openxmlformats.org/officeDocument/2006/relationships/audio" Target="../media/projctor.wav"/><Relationship Id="rId50" Type="http://schemas.openxmlformats.org/officeDocument/2006/relationships/audio" Target="../media/projctor.wav"/><Relationship Id="rId51" Type="http://schemas.openxmlformats.org/officeDocument/2006/relationships/audio" Target="../media/projctor.wav"/><Relationship Id="rId52" Type="http://schemas.openxmlformats.org/officeDocument/2006/relationships/audio" Target="../media/driveby.wav"/><Relationship Id="rId53" Type="http://schemas.openxmlformats.org/officeDocument/2006/relationships/audio" Target="../media/driveby.wav"/><Relationship Id="rId54" Type="http://schemas.openxmlformats.org/officeDocument/2006/relationships/audio" Target="../media/applause.wav"/><Relationship Id="rId5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6.wmf"/><Relationship Id="rId29" Type="http://schemas.openxmlformats.org/officeDocument/2006/relationships/audio" Target="../media/projctor.wav"/><Relationship Id="rId30" Type="http://schemas.openxmlformats.org/officeDocument/2006/relationships/audio" Target="../media/projctor.wav"/><Relationship Id="rId31" Type="http://schemas.openxmlformats.org/officeDocument/2006/relationships/audio" Target="../media/projctor.wav"/><Relationship Id="rId32" Type="http://schemas.openxmlformats.org/officeDocument/2006/relationships/audio" Target="../media/driveby.wav"/><Relationship Id="rId33" Type="http://schemas.openxmlformats.org/officeDocument/2006/relationships/audio" Target="../media/projctor.wav"/><Relationship Id="rId34" Type="http://schemas.openxmlformats.org/officeDocument/2006/relationships/audio" Target="../media/projctor.wav"/><Relationship Id="rId35" Type="http://schemas.openxmlformats.org/officeDocument/2006/relationships/audio" Target="../media/bserie06.wav"/><Relationship Id="rId36" Type="http://schemas.openxmlformats.org/officeDocument/2006/relationships/audio" Target="../media/EXPLODE.WAV"/><Relationship Id="rId37" Type="http://schemas.openxmlformats.org/officeDocument/2006/relationships/audio" Target="../media/EXPLODE.WAV"/><Relationship Id="rId38" Type="http://schemas.openxmlformats.org/officeDocument/2006/relationships/audio" Target="../media/gunshot.wav"/><Relationship Id="rId39" Type="http://schemas.openxmlformats.org/officeDocument/2006/relationships/audio" Target="../media/EXPLODE.WAV"/><Relationship Id="rId40" Type="http://schemas.openxmlformats.org/officeDocument/2006/relationships/audio" Target="../media/gunshot.wav"/><Relationship Id="rId41" Type="http://schemas.openxmlformats.org/officeDocument/2006/relationships/audio" Target="../media/gunshot.wav"/><Relationship Id="rId42" Type="http://schemas.openxmlformats.org/officeDocument/2006/relationships/audio" Target="../media/gunshot.wav"/><Relationship Id="rId43" Type="http://schemas.openxmlformats.org/officeDocument/2006/relationships/audio" Target="../media/jetflyby.wav"/><Relationship Id="rId44" Type="http://schemas.openxmlformats.org/officeDocument/2006/relationships/audio" Target="../media/zipdn102.wav"/><Relationship Id="rId45" Type="http://schemas.openxmlformats.org/officeDocument/2006/relationships/audio" Target="../media/zipdn102.wav"/><Relationship Id="rId46" Type="http://schemas.openxmlformats.org/officeDocument/2006/relationships/audio" Target="../media/EXPLODE.WAV"/><Relationship Id="rId47" Type="http://schemas.openxmlformats.org/officeDocument/2006/relationships/audio" Target="../media/projctor.wav"/><Relationship Id="rId48" Type="http://schemas.openxmlformats.org/officeDocument/2006/relationships/audio" Target="../media/projctor.wav"/><Relationship Id="rId49" Type="http://schemas.openxmlformats.org/officeDocument/2006/relationships/audio" Target="../media/projctor.wav"/><Relationship Id="rId50" Type="http://schemas.openxmlformats.org/officeDocument/2006/relationships/audio" Target="../media/projctor.wav"/><Relationship Id="rId51" Type="http://schemas.openxmlformats.org/officeDocument/2006/relationships/audio" Target="../media/projctor.wav"/><Relationship Id="rId52" Type="http://schemas.openxmlformats.org/officeDocument/2006/relationships/audio" Target="../media/projctor.wav"/><Relationship Id="rId53" Type="http://schemas.openxmlformats.org/officeDocument/2006/relationships/audio" Target="../media/driveby.wav"/><Relationship Id="rId54" Type="http://schemas.openxmlformats.org/officeDocument/2006/relationships/audio" Target="../media/driveby.wav"/><Relationship Id="rId55" Type="http://schemas.openxmlformats.org/officeDocument/2006/relationships/audio" Target="../media/applause.wav"/><Relationship Id="rId5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1.wmf"/><Relationship Id="rId27" Type="http://schemas.openxmlformats.org/officeDocument/2006/relationships/audio" Target="../media/projctor.wav"/><Relationship Id="rId28" Type="http://schemas.openxmlformats.org/officeDocument/2006/relationships/audio" Target="../media/projctor.wav"/><Relationship Id="rId29" Type="http://schemas.openxmlformats.org/officeDocument/2006/relationships/audio" Target="../media/projctor.wav"/><Relationship Id="rId30" Type="http://schemas.openxmlformats.org/officeDocument/2006/relationships/audio" Target="../media/driveby.wav"/><Relationship Id="rId31" Type="http://schemas.openxmlformats.org/officeDocument/2006/relationships/audio" Target="../media/projctor.wav"/><Relationship Id="rId32" Type="http://schemas.openxmlformats.org/officeDocument/2006/relationships/audio" Target="../media/projctor.wav"/><Relationship Id="rId33" Type="http://schemas.openxmlformats.org/officeDocument/2006/relationships/audio" Target="../media/bserie06.wav"/><Relationship Id="rId34" Type="http://schemas.openxmlformats.org/officeDocument/2006/relationships/audio" Target="../media/EXPLODE.WAV"/><Relationship Id="rId35" Type="http://schemas.openxmlformats.org/officeDocument/2006/relationships/audio" Target="../media/camera.wav"/><Relationship Id="rId36" Type="http://schemas.openxmlformats.org/officeDocument/2006/relationships/audio" Target="../media/EXPLODE.WAV"/><Relationship Id="rId37" Type="http://schemas.openxmlformats.org/officeDocument/2006/relationships/audio" Target="../media/gunshot.wav"/><Relationship Id="rId38" Type="http://schemas.openxmlformats.org/officeDocument/2006/relationships/audio" Target="../media/EXPLODE.WAV"/><Relationship Id="rId39" Type="http://schemas.openxmlformats.org/officeDocument/2006/relationships/audio" Target="../media/gunshot.wav"/><Relationship Id="rId40" Type="http://schemas.openxmlformats.org/officeDocument/2006/relationships/audio" Target="../media/gunshot.wav"/><Relationship Id="rId41" Type="http://schemas.openxmlformats.org/officeDocument/2006/relationships/audio" Target="../media/jetflyby.wav"/><Relationship Id="rId42" Type="http://schemas.openxmlformats.org/officeDocument/2006/relationships/audio" Target="../media/zipdn102.wav"/><Relationship Id="rId43" Type="http://schemas.openxmlformats.org/officeDocument/2006/relationships/audio" Target="../media/zipdn102.wav"/><Relationship Id="rId44" Type="http://schemas.openxmlformats.org/officeDocument/2006/relationships/audio" Target="../media/EXPLODE.WAV"/><Relationship Id="rId45" Type="http://schemas.openxmlformats.org/officeDocument/2006/relationships/audio" Target="../media/projctor.wav"/><Relationship Id="rId46" Type="http://schemas.openxmlformats.org/officeDocument/2006/relationships/audio" Target="../media/projctor.wav"/><Relationship Id="rId47" Type="http://schemas.openxmlformats.org/officeDocument/2006/relationships/audio" Target="../media/projctor.wav"/><Relationship Id="rId48" Type="http://schemas.openxmlformats.org/officeDocument/2006/relationships/audio" Target="../media/projctor.wav"/><Relationship Id="rId49" Type="http://schemas.openxmlformats.org/officeDocument/2006/relationships/audio" Target="../media/projctor.wav"/><Relationship Id="rId50" Type="http://schemas.openxmlformats.org/officeDocument/2006/relationships/audio" Target="../media/driveby.wav"/><Relationship Id="rId51" Type="http://schemas.openxmlformats.org/officeDocument/2006/relationships/audio" Target="../media/driveby.wav"/><Relationship Id="rId52" Type="http://schemas.openxmlformats.org/officeDocument/2006/relationships/audio" Target="../media/applause.wav"/><Relationship Id="rId5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1.wmf"/><Relationship Id="rId33" Type="http://schemas.openxmlformats.org/officeDocument/2006/relationships/audio" Target="../media/projctor.wav"/><Relationship Id="rId34" Type="http://schemas.openxmlformats.org/officeDocument/2006/relationships/audio" Target="../media/projctor.wav"/><Relationship Id="rId35" Type="http://schemas.openxmlformats.org/officeDocument/2006/relationships/audio" Target="../media/projctor.wav"/><Relationship Id="rId36" Type="http://schemas.openxmlformats.org/officeDocument/2006/relationships/audio" Target="../media/projctor.wav"/><Relationship Id="rId37" Type="http://schemas.openxmlformats.org/officeDocument/2006/relationships/audio" Target="../media/projctor.wav"/><Relationship Id="rId38" Type="http://schemas.openxmlformats.org/officeDocument/2006/relationships/audio" Target="../media/driveby.wav"/><Relationship Id="rId39" Type="http://schemas.openxmlformats.org/officeDocument/2006/relationships/audio" Target="../media/projctor.wav"/><Relationship Id="rId40" Type="http://schemas.openxmlformats.org/officeDocument/2006/relationships/audio" Target="../media/projctor.wav"/><Relationship Id="rId41" Type="http://schemas.openxmlformats.org/officeDocument/2006/relationships/audio" Target="../media/bserie06.wav"/><Relationship Id="rId42" Type="http://schemas.openxmlformats.org/officeDocument/2006/relationships/audio" Target="../media/CHIMES.WAV"/><Relationship Id="rId43" Type="http://schemas.openxmlformats.org/officeDocument/2006/relationships/audio" Target="../media/EXPLODE.WAV"/><Relationship Id="rId44" Type="http://schemas.openxmlformats.org/officeDocument/2006/relationships/audio" Target="../media/EXPLODE.WAV"/><Relationship Id="rId45" Type="http://schemas.openxmlformats.org/officeDocument/2006/relationships/audio" Target="../media/gunshot.wav"/><Relationship Id="rId46" Type="http://schemas.openxmlformats.org/officeDocument/2006/relationships/audio" Target="../media/EXPLODE.WAV"/><Relationship Id="rId47" Type="http://schemas.openxmlformats.org/officeDocument/2006/relationships/audio" Target="../media/gunshot.wav"/><Relationship Id="rId48" Type="http://schemas.openxmlformats.org/officeDocument/2006/relationships/audio" Target="../media/jetflyby.wav"/><Relationship Id="rId49" Type="http://schemas.openxmlformats.org/officeDocument/2006/relationships/audio" Target="../media/zipdn102.wav"/><Relationship Id="rId50" Type="http://schemas.openxmlformats.org/officeDocument/2006/relationships/audio" Target="../media/zipdn102.wav"/><Relationship Id="rId51" Type="http://schemas.openxmlformats.org/officeDocument/2006/relationships/audio" Target="../media/EXPLODE.WAV"/><Relationship Id="rId52" Type="http://schemas.openxmlformats.org/officeDocument/2006/relationships/audio" Target="../media/projctor.wav"/><Relationship Id="rId53" Type="http://schemas.openxmlformats.org/officeDocument/2006/relationships/audio" Target="../media/projctor.wav"/><Relationship Id="rId54" Type="http://schemas.openxmlformats.org/officeDocument/2006/relationships/audio" Target="../media/projctor.wav"/><Relationship Id="rId55" Type="http://schemas.openxmlformats.org/officeDocument/2006/relationships/audio" Target="../media/projctor.wav"/><Relationship Id="rId56" Type="http://schemas.openxmlformats.org/officeDocument/2006/relationships/audio" Target="../media/projctor.wav"/><Relationship Id="rId57" Type="http://schemas.openxmlformats.org/officeDocument/2006/relationships/audio" Target="../media/projctor.wav"/><Relationship Id="rId58" Type="http://schemas.openxmlformats.org/officeDocument/2006/relationships/audio" Target="../media/driveby.wav"/><Relationship Id="rId59" Type="http://schemas.openxmlformats.org/officeDocument/2006/relationships/audio" Target="../media/driveby.wav"/><Relationship Id="rId60" Type="http://schemas.openxmlformats.org/officeDocument/2006/relationships/audio" Target="../media/applause.wav"/><Relationship Id="rId6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1.wmf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driveby.wav"/><Relationship Id="rId22" Type="http://schemas.openxmlformats.org/officeDocument/2006/relationships/audio" Target="../media/projctor.wav"/><Relationship Id="rId23" Type="http://schemas.openxmlformats.org/officeDocument/2006/relationships/audio" Target="../media/projctor.wav"/><Relationship Id="rId24" Type="http://schemas.openxmlformats.org/officeDocument/2006/relationships/audio" Target="../media/projctor.wav"/><Relationship Id="rId25" Type="http://schemas.openxmlformats.org/officeDocument/2006/relationships/audio" Target="../media/slotwn08.wav"/><Relationship Id="rId26" Type="http://schemas.openxmlformats.org/officeDocument/2006/relationships/audio" Target="../media/laser.wav"/><Relationship Id="rId27" Type="http://schemas.openxmlformats.org/officeDocument/2006/relationships/audio" Target="../media/gunshot.wav"/><Relationship Id="rId28" Type="http://schemas.openxmlformats.org/officeDocument/2006/relationships/audio" Target="../media/gunshot.wav"/><Relationship Id="rId29" Type="http://schemas.openxmlformats.org/officeDocument/2006/relationships/audio" Target="../media/hzipup01.wav"/><Relationship Id="rId30" Type="http://schemas.openxmlformats.org/officeDocument/2006/relationships/audio" Target="../media/gunshot.wav"/><Relationship Id="rId31" Type="http://schemas.openxmlformats.org/officeDocument/2006/relationships/audio" Target="../media/gunshot.wav"/><Relationship Id="rId32" Type="http://schemas.openxmlformats.org/officeDocument/2006/relationships/audio" Target="../media/jetflyby2.wav"/><Relationship Id="rId33" Type="http://schemas.openxmlformats.org/officeDocument/2006/relationships/audio" Target="../media/zipdn102.wav"/><Relationship Id="rId34" Type="http://schemas.openxmlformats.org/officeDocument/2006/relationships/audio" Target="../media/zipdn102.wav"/><Relationship Id="rId35" Type="http://schemas.openxmlformats.org/officeDocument/2006/relationships/audio" Target="../media/EXPLODE.WAV"/><Relationship Id="rId36" Type="http://schemas.openxmlformats.org/officeDocument/2006/relationships/audio" Target="../media/byipee04.wav"/><Relationship Id="rId3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43400" y="3124080"/>
            <a:ext cx="167652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olve the equation graphically. Check your solution algebraical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291780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291780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09480" y="3962520"/>
          <a:ext cx="240840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962520"/>
                    <a:ext cx="24084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590920" y="2590920"/>
          <a:ext cx="74772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2590920"/>
                    <a:ext cx="747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676520" y="2624040"/>
          <a:ext cx="74772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2624040"/>
                    <a:ext cx="7477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57200" y="3200400"/>
            <a:ext cx="281952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66680" y="3200400"/>
          <a:ext cx="66204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3200400"/>
                    <a:ext cx="6620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676520" y="3200400"/>
          <a:ext cx="70488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3200400"/>
                    <a:ext cx="7048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28600" y="4876920"/>
          <a:ext cx="1636560" cy="61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4876920"/>
                    <a:ext cx="16365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276720" y="2133720"/>
            <a:ext cx="4800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Set equation equal to 0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373480" y="3200400"/>
          <a:ext cx="836280" cy="52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73480" y="3200400"/>
                    <a:ext cx="836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358128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Graph the related func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981080" y="4419720"/>
          <a:ext cx="1492200" cy="1469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81080" y="4419720"/>
                    <a:ext cx="149220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" name=""/>
          <p:cNvGrpSpPr/>
          <p:nvPr/>
        </p:nvGrpSpPr>
        <p:grpSpPr>
          <a:xfrm>
            <a:off x="6172200" y="2666880"/>
            <a:ext cx="2743200" cy="2743200"/>
            <a:chOff x="6172200" y="2666880"/>
            <a:chExt cx="2743200" cy="2743200"/>
          </a:xfrm>
        </p:grpSpPr>
        <p:sp>
          <p:nvSpPr>
            <p:cNvPr id="67" name=""/>
            <p:cNvSpPr/>
            <p:nvPr/>
          </p:nvSpPr>
          <p:spPr>
            <a:xfrm>
              <a:off x="6781680" y="26668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91160" y="26668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001000" y="26668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10480" y="26668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72200" y="26668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72200" y="26668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72200" y="29718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72200" y="32763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72200" y="35812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172200" y="38862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72200" y="41907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72200" y="4495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72200" y="48006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72200" y="51051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6080" y="266688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72200" y="358128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620120" y="50292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24680" y="350532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2514600"/>
            <a:ext cx="609480" cy="2971800"/>
          </a:xfrm>
          <a:custGeom>
            <a:avLst/>
            <a:gdLst/>
            <a:ahLst/>
            <a:rect l="l" t="t" r="r" b="b"/>
            <a:pathLst>
              <a:path w="1848" h="804">
                <a:moveTo>
                  <a:pt x="0" y="804"/>
                </a:moveTo>
                <a:lnTo>
                  <a:pt x="1848" y="0"/>
                </a:ln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72400" y="3352680"/>
            <a:ext cx="457200" cy="457200"/>
          </a:xfrm>
          <a:prstGeom prst="ellipse">
            <a:avLst/>
          </a:prstGeom>
          <a:solidFill>
            <a:srgbClr val="00cc99">
              <a:alpha val="2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87840" y="3147840"/>
          <a:ext cx="1300320" cy="568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587840" y="3147840"/>
                    <a:ext cx="13003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89" name=""/>
          <p:cNvCxnSpPr>
            <a:stCxn id="86" idx="1"/>
          </p:cNvCxnSpPr>
          <p:nvPr/>
        </p:nvCxnSpPr>
        <p:spPr>
          <a:xfrm flipV="1" rot="10800000">
            <a:off x="5887440" y="3419640"/>
            <a:ext cx="1952280" cy="13320"/>
          </a:xfrm>
          <a:prstGeom prst="curvedConnector3">
            <a:avLst>
              <a:gd name="adj1" fmla="val 28181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05320" y="4819680"/>
                <a:ext cx="25146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1" name=""/>
          <p:cNvGraphicFramePr/>
          <p:nvPr/>
        </p:nvGraphicFramePr>
        <p:xfrm>
          <a:off x="3962520" y="4876920"/>
          <a:ext cx="326880" cy="487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962520" y="4876920"/>
                    <a:ext cx="32688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191120" y="5410080"/>
          <a:ext cx="1800000" cy="487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91120" y="5410080"/>
                    <a:ext cx="18000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876920" y="6019920"/>
          <a:ext cx="1144440" cy="487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876920" y="6019920"/>
                    <a:ext cx="114444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019920" y="6095880"/>
            <a:ext cx="16164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172200" y="5867280"/>
            <a:ext cx="38088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5562720" y="1752480"/>
            <a:ext cx="3136680" cy="3200400"/>
            <a:chOff x="5562720" y="1752480"/>
            <a:chExt cx="3136680" cy="3200400"/>
          </a:xfrm>
        </p:grpSpPr>
        <p:sp>
          <p:nvSpPr>
            <p:cNvPr id="100" name=""/>
            <p:cNvSpPr/>
            <p:nvPr/>
          </p:nvSpPr>
          <p:spPr>
            <a:xfrm>
              <a:off x="6269040" y="182880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64200" y="1828800"/>
              <a:ext cx="34632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58280" y="1828800"/>
              <a:ext cx="34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52000" y="1828800"/>
              <a:ext cx="34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75320" y="182880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75320" y="182880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75320" y="2176560"/>
              <a:ext cx="312408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75320" y="252252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75320" y="287028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75320" y="3218040"/>
              <a:ext cx="312408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75320" y="356400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75320" y="391176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75320" y="4259160"/>
              <a:ext cx="3124080" cy="34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75320" y="460548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15200" y="1752480"/>
              <a:ext cx="0" cy="3124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62720" y="4267080"/>
              <a:ext cx="3124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429000" y="4114800"/>
            <a:ext cx="167652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olve the equation graphically. Check your solution algebraical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2133720"/>
          <a:ext cx="291780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291780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65120" y="3962520"/>
          <a:ext cx="269712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120" y="3962520"/>
                    <a:ext cx="26971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143000" y="2590920"/>
          <a:ext cx="9684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590920"/>
                    <a:ext cx="9684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438280" y="2590920"/>
          <a:ext cx="96696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590920"/>
                    <a:ext cx="9669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57200" y="3200400"/>
            <a:ext cx="281952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00200" y="3200400"/>
          <a:ext cx="39672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3200400"/>
                    <a:ext cx="3967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000160" y="3200400"/>
          <a:ext cx="110196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00160" y="3200400"/>
                    <a:ext cx="11019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76120" y="4876920"/>
          <a:ext cx="1540080" cy="61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6120" y="4876920"/>
                    <a:ext cx="15400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990880" y="3200400"/>
          <a:ext cx="968400" cy="52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90880" y="3200400"/>
                    <a:ext cx="9684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0" y="358128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Graph the related func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57320" y="4419720"/>
          <a:ext cx="1541520" cy="1469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57320" y="4419720"/>
                    <a:ext cx="154152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238880" y="243828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14479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77120" y="4038480"/>
            <a:ext cx="457200" cy="457200"/>
          </a:xfrm>
          <a:prstGeom prst="ellipse">
            <a:avLst/>
          </a:prstGeom>
          <a:solidFill>
            <a:srgbClr val="00cc99">
              <a:alpha val="2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429000" y="4191120"/>
          <a:ext cx="1684440" cy="568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29000" y="4191120"/>
                    <a:ext cx="168444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45" name=""/>
          <p:cNvCxnSpPr>
            <a:stCxn id="142" idx="1"/>
          </p:cNvCxnSpPr>
          <p:nvPr/>
        </p:nvCxnSpPr>
        <p:spPr>
          <a:xfrm rot="5400000">
            <a:off x="5634720" y="3567240"/>
            <a:ext cx="386640" cy="1430640"/>
          </a:xfrm>
          <a:prstGeom prst="curvedConnector5">
            <a:avLst>
              <a:gd name="adj1" fmla="val -72413"/>
              <a:gd name="adj2" fmla="val 26176"/>
              <a:gd name="adj3" fmla="val -7241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733920" y="5151600"/>
                <a:ext cx="24382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7" name=""/>
          <p:cNvGraphicFramePr/>
          <p:nvPr/>
        </p:nvGraphicFramePr>
        <p:xfrm>
          <a:off x="4419720" y="5181480"/>
          <a:ext cx="653760" cy="487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19720" y="5181480"/>
                    <a:ext cx="6537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648320" y="5943600"/>
          <a:ext cx="1512720" cy="487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648320" y="5943600"/>
                    <a:ext cx="15127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172200" y="609588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324480" y="5867280"/>
            <a:ext cx="38124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35053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457200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477120" y="1066320"/>
            <a:ext cx="1295280" cy="3962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657600" y="4114800"/>
            <a:ext cx="167652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olve the equation graphically. Check your solution algebraical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2133720"/>
          <a:ext cx="263700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263700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60520" y="3962520"/>
          <a:ext cx="250488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520" y="3962520"/>
                    <a:ext cx="2504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362320" y="2666880"/>
          <a:ext cx="703080" cy="52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2666880"/>
                    <a:ext cx="7030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2666880"/>
          <a:ext cx="70308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666880"/>
                    <a:ext cx="7030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7200" y="3200400"/>
            <a:ext cx="281952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3200400"/>
          <a:ext cx="145548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3200400"/>
                    <a:ext cx="14554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286000" y="3200400"/>
          <a:ext cx="83664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3200400"/>
                    <a:ext cx="836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28600" y="4876920"/>
          <a:ext cx="1636560" cy="61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4876920"/>
                    <a:ext cx="16365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0" y="358128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Graph the related func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812960" y="4419720"/>
          <a:ext cx="1830240" cy="1469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12960" y="4419720"/>
                    <a:ext cx="183024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7238880" y="373392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43800" y="40384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666880"/>
            <a:ext cx="457200" cy="457200"/>
          </a:xfrm>
          <a:prstGeom prst="ellipse">
            <a:avLst/>
          </a:prstGeom>
          <a:solidFill>
            <a:srgbClr val="00cc99">
              <a:alpha val="2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657600" y="4191120"/>
          <a:ext cx="1684440" cy="568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57600" y="4191120"/>
                    <a:ext cx="168444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83" name=""/>
          <p:cNvCxnSpPr>
            <a:stCxn id="180" idx="1"/>
          </p:cNvCxnSpPr>
          <p:nvPr/>
        </p:nvCxnSpPr>
        <p:spPr>
          <a:xfrm rot="5400000">
            <a:off x="4910760" y="3147840"/>
            <a:ext cx="1758240" cy="897480"/>
          </a:xfrm>
          <a:prstGeom prst="curvedConnector5">
            <a:avLst>
              <a:gd name="adj1" fmla="val -15891"/>
              <a:gd name="adj2" fmla="val 26886"/>
              <a:gd name="adj3" fmla="val -15891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809880" y="5181480"/>
                <a:ext cx="2286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5" name=""/>
          <p:cNvGraphicFramePr/>
          <p:nvPr/>
        </p:nvGraphicFramePr>
        <p:xfrm>
          <a:off x="4648320" y="5230800"/>
          <a:ext cx="653760" cy="487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48320" y="5230800"/>
                    <a:ext cx="6537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873680" y="5943600"/>
          <a:ext cx="1062000" cy="487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73680" y="5943600"/>
                    <a:ext cx="10620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172200" y="609588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324480" y="5867280"/>
            <a:ext cx="38124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34320" y="34290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31240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791320" y="1981080"/>
            <a:ext cx="2743200" cy="2743200"/>
            <a:chOff x="5791320" y="1981080"/>
            <a:chExt cx="2743200" cy="2743200"/>
          </a:xfrm>
        </p:grpSpPr>
        <p:sp>
          <p:nvSpPr>
            <p:cNvPr id="194" name=""/>
            <p:cNvSpPr/>
            <p:nvPr/>
          </p:nvSpPr>
          <p:spPr>
            <a:xfrm>
              <a:off x="6400800" y="19810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10280" y="19810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20120" y="19810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29600" y="19810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91320" y="19810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1320" y="1981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91320" y="22860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91320" y="25905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91320" y="2895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91320" y="32004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91320" y="35049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1320" y="38098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91320" y="41148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91320" y="44193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15200" y="198108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91320" y="289548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6324480" y="281952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638320" y="2133720"/>
            <a:ext cx="2667240" cy="2666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141800" y="5272200"/>
          <a:ext cx="449280" cy="446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41800" y="5272200"/>
                    <a:ext cx="4492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660920" y="5294160"/>
          <a:ext cx="449280" cy="446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60920" y="5294160"/>
                    <a:ext cx="449280" cy="4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5562720" y="1752480"/>
            <a:ext cx="3149280" cy="3200400"/>
            <a:chOff x="5562720" y="1752480"/>
            <a:chExt cx="3149280" cy="3200400"/>
          </a:xfrm>
        </p:grpSpPr>
        <p:sp>
          <p:nvSpPr>
            <p:cNvPr id="217" name=""/>
            <p:cNvSpPr/>
            <p:nvPr/>
          </p:nvSpPr>
          <p:spPr>
            <a:xfrm>
              <a:off x="6257880" y="182880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53040" y="1828800"/>
              <a:ext cx="34632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47120" y="1828800"/>
              <a:ext cx="34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40840" y="1828800"/>
              <a:ext cx="34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4160" y="182880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64160" y="182880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4160" y="2176200"/>
              <a:ext cx="3124080" cy="34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64160" y="252252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64160" y="286992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64160" y="3217680"/>
              <a:ext cx="312408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64160" y="356364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64160" y="391140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64160" y="4259160"/>
              <a:ext cx="312408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4160" y="460512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04040" y="1752480"/>
              <a:ext cx="0" cy="3124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62720" y="4593960"/>
              <a:ext cx="3149280" cy="14400"/>
            </a:xfrm>
            <a:custGeom>
              <a:avLst/>
              <a:gdLst/>
              <a:ahLst/>
              <a:rect l="l" t="t" r="r" b="b"/>
              <a:pathLst>
                <a:path w="1984" h="9">
                  <a:moveTo>
                    <a:pt x="0" y="0"/>
                  </a:moveTo>
                  <a:lnTo>
                    <a:pt x="1984" y="9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657600" y="4114800"/>
            <a:ext cx="167652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olve the equation graphically. Check your solution algebraical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28600" y="2133720"/>
          <a:ext cx="367344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33720"/>
                    <a:ext cx="367344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584280" y="3962520"/>
          <a:ext cx="245736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4280" y="3962520"/>
                    <a:ext cx="245736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2817720" y="2666880"/>
          <a:ext cx="1011240" cy="52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7720" y="2666880"/>
                    <a:ext cx="10112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1295280" y="2666880"/>
          <a:ext cx="101124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2666880"/>
                    <a:ext cx="10112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457200" y="3200400"/>
            <a:ext cx="327672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82640" y="3200400"/>
          <a:ext cx="141300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2640" y="3200400"/>
                    <a:ext cx="1413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2286000" y="3200400"/>
          <a:ext cx="83664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3200400"/>
                    <a:ext cx="836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396720" y="4876920"/>
          <a:ext cx="1300320" cy="61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720" y="4876920"/>
                    <a:ext cx="1300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0" y="358128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Graph the related func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957320" y="4419720"/>
          <a:ext cx="1541520" cy="1469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57320" y="4419720"/>
                    <a:ext cx="154152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7238880" y="175248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3808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4343400"/>
            <a:ext cx="457200" cy="457200"/>
          </a:xfrm>
          <a:prstGeom prst="ellipse">
            <a:avLst/>
          </a:prstGeom>
          <a:solidFill>
            <a:srgbClr val="00cc99">
              <a:alpha val="2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657600" y="4191120"/>
          <a:ext cx="1684440" cy="568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57600" y="4191120"/>
                    <a:ext cx="168444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60" name=""/>
          <p:cNvCxnSpPr>
            <a:stCxn id="257" idx="1"/>
          </p:cNvCxnSpPr>
          <p:nvPr/>
        </p:nvCxnSpPr>
        <p:spPr>
          <a:xfrm rot="5400000">
            <a:off x="5863680" y="3870720"/>
            <a:ext cx="81360" cy="1126080"/>
          </a:xfrm>
          <a:prstGeom prst="curvedConnector5">
            <a:avLst>
              <a:gd name="adj1" fmla="val -346222"/>
              <a:gd name="adj2" fmla="val 26511"/>
              <a:gd name="adj3" fmla="val -346222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549600" y="5229360"/>
                <a:ext cx="37450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62" name=""/>
          <p:cNvGraphicFramePr/>
          <p:nvPr/>
        </p:nvGraphicFramePr>
        <p:xfrm>
          <a:off x="4703760" y="5257800"/>
          <a:ext cx="695160" cy="487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703760" y="5257800"/>
                    <a:ext cx="6951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105520" y="6370560"/>
          <a:ext cx="1143000" cy="487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105520" y="6370560"/>
                    <a:ext cx="11430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6248520" y="6523200"/>
            <a:ext cx="16164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400800" y="6294240"/>
            <a:ext cx="380880" cy="53316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31240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449568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477120" y="152280"/>
            <a:ext cx="1218960" cy="5029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419720" y="5867280"/>
          <a:ext cx="1063440" cy="487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19720" y="5867280"/>
                    <a:ext cx="10634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5410080" y="5867280"/>
          <a:ext cx="776520" cy="487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410080" y="5867280"/>
                    <a:ext cx="7765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553080" y="5257800"/>
          <a:ext cx="695520" cy="487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553080" y="5257800"/>
                    <a:ext cx="6955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022640" y="3429000"/>
            <a:ext cx="167652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olve the equation graphically. Check your solution algebraical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63680" y="2133720"/>
          <a:ext cx="320184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2133720"/>
                    <a:ext cx="320184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609480" y="3962520"/>
          <a:ext cx="284328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962520"/>
                    <a:ext cx="28432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2971800" y="2666880"/>
          <a:ext cx="703440" cy="52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666880"/>
                    <a:ext cx="7034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2133720" y="2666880"/>
          <a:ext cx="70308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2666880"/>
                    <a:ext cx="7030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457200" y="3200400"/>
            <a:ext cx="327672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066680" y="3200400"/>
          <a:ext cx="176688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3200400"/>
                    <a:ext cx="1766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2819520" y="3200400"/>
          <a:ext cx="83664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3200400"/>
                    <a:ext cx="836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8600" y="4952880"/>
          <a:ext cx="1685880" cy="61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4952880"/>
                    <a:ext cx="16858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0" y="358128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Graph the related func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981080" y="4572000"/>
          <a:ext cx="1541520" cy="1469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81080" y="4572000"/>
                    <a:ext cx="154152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477120" y="40384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86600" y="37339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43800" y="3276720"/>
            <a:ext cx="457200" cy="457200"/>
          </a:xfrm>
          <a:prstGeom prst="ellipse">
            <a:avLst/>
          </a:prstGeom>
          <a:solidFill>
            <a:srgbClr val="00cc99">
              <a:alpha val="2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191120" y="3505320"/>
          <a:ext cx="1347840" cy="568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1120" y="3505320"/>
                    <a:ext cx="134784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04" name=""/>
          <p:cNvCxnSpPr>
            <a:stCxn id="301" idx="1"/>
          </p:cNvCxnSpPr>
          <p:nvPr/>
        </p:nvCxnSpPr>
        <p:spPr>
          <a:xfrm rot="5400000">
            <a:off x="6343560" y="2521800"/>
            <a:ext cx="462600" cy="2071800"/>
          </a:xfrm>
          <a:prstGeom prst="curvedConnector5">
            <a:avLst>
              <a:gd name="adj1" fmla="val -60436"/>
              <a:gd name="adj2" fmla="val 25825"/>
              <a:gd name="adj3" fmla="val -60436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091040" y="5205240"/>
                <a:ext cx="2952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6" name=""/>
          <p:cNvGraphicFramePr/>
          <p:nvPr/>
        </p:nvGraphicFramePr>
        <p:xfrm>
          <a:off x="4952880" y="5257800"/>
          <a:ext cx="409680" cy="487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52880" y="5257800"/>
                    <a:ext cx="4096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888160" y="6370560"/>
          <a:ext cx="1101600" cy="487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888160" y="6370560"/>
                    <a:ext cx="11016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7010280" y="652320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162920" y="6294240"/>
            <a:ext cx="380880" cy="53316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6080" y="342900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790960" y="2971800"/>
            <a:ext cx="2971800" cy="1523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5202360" y="5867280"/>
          <a:ext cx="1022400" cy="487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202360" y="5867280"/>
                    <a:ext cx="10224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6172200" y="5867280"/>
          <a:ext cx="776160" cy="487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172200" y="5867280"/>
                    <a:ext cx="7761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8" name=""/>
          <p:cNvGrpSpPr/>
          <p:nvPr/>
        </p:nvGrpSpPr>
        <p:grpSpPr>
          <a:xfrm>
            <a:off x="5943600" y="1981080"/>
            <a:ext cx="2743200" cy="2743200"/>
            <a:chOff x="5943600" y="1981080"/>
            <a:chExt cx="2743200" cy="2743200"/>
          </a:xfrm>
        </p:grpSpPr>
        <p:sp>
          <p:nvSpPr>
            <p:cNvPr id="319" name=""/>
            <p:cNvSpPr/>
            <p:nvPr/>
          </p:nvSpPr>
          <p:spPr>
            <a:xfrm>
              <a:off x="6553080" y="19810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62920" y="19810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72400" y="19810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81880" y="19810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43600" y="19810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43600" y="1981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43600" y="22860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43600" y="25905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2895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32004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35049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41148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44193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198108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43600" y="350496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5791320" y="1981080"/>
            <a:ext cx="2743200" cy="2743200"/>
            <a:chOff x="5791320" y="1981080"/>
            <a:chExt cx="2743200" cy="2743200"/>
          </a:xfrm>
        </p:grpSpPr>
        <p:sp>
          <p:nvSpPr>
            <p:cNvPr id="336" name=""/>
            <p:cNvSpPr/>
            <p:nvPr/>
          </p:nvSpPr>
          <p:spPr>
            <a:xfrm>
              <a:off x="6400800" y="19810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10280" y="19810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20120" y="19810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29600" y="19810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91320" y="19810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91320" y="1981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91320" y="22860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91320" y="25905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91320" y="2895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1320" y="32004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91320" y="35049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91320" y="38098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91320" y="41148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91320" y="44193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198108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1320" y="289548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4022640" y="3429000"/>
            <a:ext cx="167652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olve the equation graphically. Check your solution algebraical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28600" y="2133720"/>
          <a:ext cx="428472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33720"/>
                    <a:ext cx="428472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825480" y="3962520"/>
          <a:ext cx="240984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5480" y="3962520"/>
                    <a:ext cx="240984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3505320" y="2666880"/>
          <a:ext cx="1011240" cy="52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666880"/>
                    <a:ext cx="10112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533520" y="2666880"/>
          <a:ext cx="101124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2666880"/>
                    <a:ext cx="10112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685800" y="3200400"/>
            <a:ext cx="379080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265400" y="3200400"/>
          <a:ext cx="136836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65400" y="3200400"/>
                    <a:ext cx="13683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819520" y="3200400"/>
          <a:ext cx="83664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3200400"/>
                    <a:ext cx="836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252360" y="4952880"/>
          <a:ext cx="1638360" cy="61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2360" y="4952880"/>
                    <a:ext cx="163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0" y="358128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Graph the related func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004840" y="4572000"/>
          <a:ext cx="1494000" cy="1469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04840" y="4572000"/>
                    <a:ext cx="149400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43800" y="28195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91520" y="2666880"/>
            <a:ext cx="457200" cy="457200"/>
          </a:xfrm>
          <a:prstGeom prst="ellipse">
            <a:avLst/>
          </a:prstGeom>
          <a:solidFill>
            <a:srgbClr val="00cc99">
              <a:alpha val="2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214880" y="3505320"/>
          <a:ext cx="1298520" cy="568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14880" y="3505320"/>
                    <a:ext cx="129852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79" name=""/>
          <p:cNvCxnSpPr>
            <a:stCxn id="376" idx="1"/>
          </p:cNvCxnSpPr>
          <p:nvPr/>
        </p:nvCxnSpPr>
        <p:spPr>
          <a:xfrm rot="5400000">
            <a:off x="5961960" y="2292840"/>
            <a:ext cx="1072440" cy="1919880"/>
          </a:xfrm>
          <a:prstGeom prst="curvedConnector5">
            <a:avLst>
              <a:gd name="adj1" fmla="val -26057"/>
              <a:gd name="adj2" fmla="val 25881"/>
              <a:gd name="adj3" fmla="val -26057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327560" y="5216400"/>
                <a:ext cx="42004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81" name=""/>
          <p:cNvGraphicFramePr/>
          <p:nvPr/>
        </p:nvGraphicFramePr>
        <p:xfrm>
          <a:off x="4876920" y="5257800"/>
          <a:ext cx="326880" cy="487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5257800"/>
                    <a:ext cx="3268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5867280" y="6370560"/>
          <a:ext cx="1143000" cy="487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867280" y="6370560"/>
                    <a:ext cx="11430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7010280" y="652320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162920" y="6294240"/>
            <a:ext cx="380880" cy="53316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7238880" y="1828800"/>
            <a:ext cx="609840" cy="3048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5181480" y="5867280"/>
          <a:ext cx="1022400" cy="487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181480" y="5867280"/>
                    <a:ext cx="10224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6172200" y="5867280"/>
          <a:ext cx="1635120" cy="487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172200" y="5867280"/>
                    <a:ext cx="16351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2438280" y="2666880"/>
          <a:ext cx="924120" cy="520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438280" y="2666880"/>
                    <a:ext cx="9241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1492200" y="2666880"/>
          <a:ext cx="922320" cy="520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492200" y="2666880"/>
                    <a:ext cx="9223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7924680" y="5257800"/>
          <a:ext cx="327240" cy="487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924680" y="5257800"/>
                    <a:ext cx="3272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609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sing Slope-Intercept Form to Solve a Real-Lif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11430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7. Based on data from 1992 to 1995, a model for the United States consumer price index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+ 140.35, where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s the number of years since 1992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ccording to this model, in what year will the United States have a consumer price index of 180.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219320" y="2743200"/>
          <a:ext cx="34858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743200"/>
                    <a:ext cx="34858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066680" y="5257800"/>
          <a:ext cx="140976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257800"/>
                    <a:ext cx="140976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795240" y="4510080"/>
                <a:ext cx="2552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6629400" y="62485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34320" y="50292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629400" y="3276360"/>
            <a:ext cx="838080" cy="33526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439560" y="2743200"/>
          <a:ext cx="13669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560" y="2743200"/>
                    <a:ext cx="13669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152280" y="3276720"/>
          <a:ext cx="158616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3276720"/>
                    <a:ext cx="15861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2743200" y="3276720"/>
          <a:ext cx="1581120" cy="52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3276720"/>
                    <a:ext cx="15811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590400" y="3809880"/>
            <a:ext cx="405792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733400" y="3809880"/>
          <a:ext cx="397080" cy="522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33400" y="3809880"/>
                    <a:ext cx="3970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2155680" y="3809880"/>
          <a:ext cx="1057320" cy="520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55680" y="3809880"/>
                    <a:ext cx="10573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135240" y="3794040"/>
                <a:ext cx="17748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6095880" y="3581280"/>
            <a:ext cx="2743200" cy="2743200"/>
            <a:chOff x="6095880" y="3581280"/>
            <a:chExt cx="2743200" cy="2743200"/>
          </a:xfrm>
        </p:grpSpPr>
        <p:sp>
          <p:nvSpPr>
            <p:cNvPr id="422" name=""/>
            <p:cNvSpPr/>
            <p:nvPr/>
          </p:nvSpPr>
          <p:spPr>
            <a:xfrm>
              <a:off x="670536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15200" y="35812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2468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53416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9588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95880" y="358128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95880" y="38858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95880" y="41907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95880" y="449568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95880" y="48002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95880" y="51051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5880" y="541008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95880" y="57146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95880" y="60195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05360" y="358128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95880" y="388584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5486400" y="3276720"/>
            <a:ext cx="685800" cy="42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1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3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4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086600" y="3657600"/>
            <a:ext cx="457200" cy="457200"/>
          </a:xfrm>
          <a:prstGeom prst="ellipse">
            <a:avLst/>
          </a:prstGeom>
          <a:solidFill>
            <a:srgbClr val="00cc99">
              <a:alpha val="2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657600" y="5105520"/>
          <a:ext cx="1587600" cy="56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7600" y="5105520"/>
                    <a:ext cx="158760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43" name=""/>
          <p:cNvCxnSpPr>
            <a:stCxn id="440" idx="1"/>
          </p:cNvCxnSpPr>
          <p:nvPr/>
        </p:nvCxnSpPr>
        <p:spPr>
          <a:xfrm rot="5400000">
            <a:off x="5357880" y="3594960"/>
            <a:ext cx="1681920" cy="1908720"/>
          </a:xfrm>
          <a:prstGeom prst="curvedConnector5">
            <a:avLst>
              <a:gd name="adj1" fmla="val -16613"/>
              <a:gd name="adj2" fmla="val 25863"/>
              <a:gd name="adj3" fmla="val -1661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2666880" y="5883120"/>
            <a:ext cx="28958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0 years from 1992 will be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200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slotwn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10-13T14:46:47Z</dcterms:modified>
  <cp:revision>334</cp:revision>
  <dc:subject/>
  <dc:title>No Slide Title</dc:title>
</cp:coreProperties>
</file>